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5.png" ContentType="image/png"/>
  <Override PartName="/ppt/media/image3.pct" ContentType="image/x-pict"/>
  <Override PartName="/ppt/media/image4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reated by Mr. C Wrigh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ulwich College Shangh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2560" cy="7621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7416720" y="0"/>
            <a:ext cx="1727280" cy="533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848720" cy="15238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ctatorships, Democracy and the ‘left-right spectrum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the key features of dictatorships, democracies and left wing/right 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out where you fall on the ‘left-right wing spectrum’ and how you compare to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763120" cy="4835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17760" y="927000"/>
            <a:ext cx="6108480" cy="500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7040" y="0"/>
            <a:ext cx="8089920" cy="10032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4394160" cy="4079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84440" y="1022400"/>
            <a:ext cx="3975120" cy="481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group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‘causes’ people to become left or right wing in their belief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t possible to be both left and right wing in your belief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(though not always) University students &amp; young people have a reputation for being more left wing and older people tend to be more right wing. Why do you think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in the 193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53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world divided, some countries are ‘democracies’, some are ‘dictatorships’ and some claim to be democracies but aren’t rea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further confuse matters governments are being described as ‘left wing and right wing’ as wel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se things still exist today: it is important to understand what they me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name any dictatorships &amp; democra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953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3809880" cy="4953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advantages and disadvantages of a ‘dictatorship’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543800" cy="41911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of WW2: Dictatorships and Democra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953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the titl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tly stick in the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circle in pencil the point of view for each category (foreign affairs, tax etc) that you agree with m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o refer to the word definitions below the table if you don’t understand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267080" cy="3035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238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772400" cy="3200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attempt questions 2+3 from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et you have been given. Question 2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roup discussion, question 3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ten as a full sentence answer and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need to explain how you reache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4+5 from the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53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 can we work out a method to show the political profile of the class as a whole? Could there be more than one way of doing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Now we should use these methods to work out whether we are a ‘left wing or right wing’ cla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ce it was simple, you had one spectrum and that was 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no one seems able to agree and its got a whole lot more complicat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429000"/>
            <a:ext cx="6858000" cy="0"/>
          </a:xfrm>
          <a:prstGeom prst="line">
            <a:avLst/>
          </a:prstGeom>
          <a:ln w="123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3581280"/>
            <a:ext cx="1295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f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657600"/>
            <a:ext cx="12189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gh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8-03-06T02:31:15Z</dcterms:modified>
  <cp:revision>1</cp:revision>
  <dc:subject/>
  <dc:title>Dictatorships, Democracy and the ‘left-right spectrum’</dc:title>
</cp:coreProperties>
</file>